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41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29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60AB-FF76-4715-A1CA-660E44C779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D81D-B4A8-462C-82C9-04BE73DC15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7C74-2F0E-40E8-A108-CE52B92921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137-1DA8-4DBA-A71E-75CA2BFD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3F8-C820-4963-85B7-4AE0CA9A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8A3FC-994F-44D2-A4E8-816B5B47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F1F2F-9367-45A2-83F9-B340C678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7DFBB-8E47-4FC9-8A50-DE49E05E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A08AC-238B-4E18-8A28-BD8C7C27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A4CB5-086B-4C88-B7F1-58A7A18B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00043-CBD2-4BE9-8311-DDEC5BB7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CBEB0-B988-4481-A120-EBCC0A5A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A06D8-BE7F-4E50-9314-754B5756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D1272-931F-481C-BE07-CD94374C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BFA-270C-46DE-90BE-9BECD542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6E3-6877-4492-9B44-1E608314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0B49-F9F1-4249-899F-1251B745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6F70-578A-4C1D-9EF4-986F891C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BC08-942D-424C-A00B-8C77782B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1FB5-0AA5-40A7-8E2A-7BA0A05D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467C-CEF0-4201-8376-83D9DC9E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89CC-893A-4817-8ED1-4B5C45B8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CF90-3656-4A46-B010-EA75709E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5CE-A073-4E73-95C5-960910E5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8C59-1F8E-4686-B051-25055111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6533-5A1A-4492-9E7A-42AD2796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7661-F2D5-43A3-BCB0-74C58B26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E624-31F6-4A9B-9FA8-B1E44AE9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5AE6-47BE-498C-BBFA-0F74206F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8555-B140-4775-9750-672B19F1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8B10-48FF-4A74-889A-191FD789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0BB0-550F-480F-A29C-4B911ACC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6883-7B82-4D56-A653-360384D3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6DFC-647B-40E7-8F12-4B86A2B6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F8A9-BADD-433F-A819-AA2CD2B1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A1AA3-11F8-4F1E-9380-61248923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767C-A6E8-4F39-B79C-DF961D67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954B-0B3F-4C7D-952D-7F536893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CBCF-DFBB-4868-9967-825A6DFB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D6E0E-5106-4264-AE73-CB5406B8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B46EF-BD05-460B-B9FF-8B03A848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81C8-6F59-4879-9903-EB230F89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13CAC-F64C-4206-B1EA-04AB5CB9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98F45-399B-4568-B3CB-1E0AE14C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88F6-50C6-47C8-AFD8-89BEDC83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FB3-6AB9-45FB-AEE0-F47BB7B7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CA5D5-58E3-4DCB-8FB0-5816BAE4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7D704-FE3A-4014-9A5F-71541BB2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F7EE-1328-4F58-B985-90D476EC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9F25B-56DB-45D0-B0EA-E6E904CC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A7D1-7D07-4FF3-AC0B-36B639F4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B5E2-6055-4A88-A35E-4EF5EE8A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297E1-28AE-4963-84B2-064A7E45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B3D4B-FAA8-4B75-98CB-BCD56DCF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8EEF-6563-41F3-B162-DB7C6CBD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BA9D0-A396-4CFF-B668-8DC6CCB3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E06-CAD6-4FEA-AC17-D928584A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FDE6B-47C3-4AD2-B109-C4CF0CCD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1D42F-FE1D-4DB2-91FF-EB66E67E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934B0-21EB-4287-8B7C-E6620CE4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58D07-7954-4D21-BB8E-D3DD2E4F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E0D26-F1E9-4342-BB1C-B4291D3D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32DEA-0E71-400F-9171-F24764CA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78900-1621-4187-A5D1-AEDA17BC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42C9F-3885-475E-A95E-A4503FCA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3423B-450B-4DDD-BA29-CB131163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25E2E-44F4-4FA2-98B6-11BE0184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030-476B-43C3-90EC-136084FE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EFDBB-8A62-4061-A045-DBE52543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E6516-9282-45EA-BE63-760488DF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B8DB6-5F65-4A96-A4CA-B1606172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24933-D295-42F8-93C1-FC5E499D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4D5AB-DFFE-4F64-B82F-8AD8D5EE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BBA6B-38AA-42A1-921A-E44EE4A0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E22D2-D482-4756-BA84-38B0ABDE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2FA92-EC18-4C49-9CD5-2FC24524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A5BF9-CF64-4237-9CE9-3930020C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78C3E-B896-4AC5-9E1E-32362218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8A0-A5FE-4259-B685-6B66B2FC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26854-D686-432E-80A0-40BF3356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FDF19-5973-4189-B5E8-DD1834C2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48D1A-4C2D-4DA1-BC01-DD0A91F0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3EBC0-249A-459F-986D-6F37FC2E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4C812-1FC9-4E02-93F0-2CB429E3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3C60A-BF58-4D9E-9F11-D020A02D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B0C94-B17D-46D9-BDA8-0304C5A9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995C1-2BA9-4510-A84D-31F9BAFA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AB22B-AB04-41FC-BE9A-4B6D670A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D3755-60C1-46B3-8BDB-CE4A09A8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50D-DEEE-4889-A38C-D60FB525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4687E-E1CB-41BA-A381-466F7206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85462-BBD9-4F88-81EE-192B3DD7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4CB19-5D5F-4556-A4D6-E2938743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36B50-DEDF-40D8-83F8-A9396220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7A1A0-5660-445A-B2E8-6A9639F1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3940B-FC98-4393-98E2-69FD29FC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CC1DE-C05A-40B7-B91B-013858A7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51333-508A-46E5-8AF0-73A9CB7F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61F5F-984F-4252-89DA-23F49D1B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AF82C-B7C4-4994-A5B7-4010808A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018-2E4A-4317-9A82-7E38F5D2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98382-34B5-411B-BCAC-4E499958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FD5B9-11DD-4599-8C27-A9F6FFC7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ACF64-D90F-447B-8667-5E33CC9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E8818-E957-48F9-9A88-76AD2F3D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90FEC-3490-4A02-A85F-855BFBAD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2612A-E14E-4D21-9CD3-9D253087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14E42-5687-4154-9123-62AC51F7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81654-78A9-4C97-A831-B3F4790C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D8EFC-C32B-49C5-98ED-9D8D5BF9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008DC-4E79-447A-93FF-B5BC64EF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5E30-907D-4A48-92AC-D0C19DD2994F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FEBB-EA14-429F-9BDA-2E6950A495F8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A0FA-E1F7-4645-AF49-027ABC40E0D9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7457-B33A-4AFA-A5BF-3B0D65B3178C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DD1C-FA42-42AC-A479-6A562B483CC7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A667-A83B-49A7-B6D8-7A1CA84E95CF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5D04-8812-4EC5-AC50-5E2A3A87FF28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768C-6167-4F6B-AECC-5D6DC46DFDA5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9D07-3BBB-41E6-9843-8FC44CE81B88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31720" y="4642920"/>
            <a:ext cx="74070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320e04"/>
              </a:solidFill>
              <a:latin typeface="Franklin Gothic Book"/>
            </a:endParaRPr>
          </a:p>
        </p:txBody>
      </p:sp>
      <p:pic>
        <p:nvPicPr>
          <p:cNvPr id="407" name="Прямоугольник 4" descr=""/>
          <p:cNvPicPr/>
          <p:nvPr/>
        </p:nvPicPr>
        <p:blipFill>
          <a:blip r:embed="rId1"/>
          <a:stretch/>
        </p:blipFill>
        <p:spPr>
          <a:xfrm>
            <a:off x="1378080" y="1212840"/>
            <a:ext cx="6327720" cy="2311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9" descr="дизель"/>
          <p:cNvPicPr/>
          <p:nvPr/>
        </p:nvPicPr>
        <p:blipFill>
          <a:blip r:embed="rId1"/>
          <a:stretch/>
        </p:blipFill>
        <p:spPr>
          <a:xfrm>
            <a:off x="214200" y="333360"/>
            <a:ext cx="3456000" cy="459576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2"/>
          <p:cNvSpPr/>
          <p:nvPr/>
        </p:nvSpPr>
        <p:spPr>
          <a:xfrm>
            <a:off x="3929040" y="1214280"/>
            <a:ext cx="43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878 – 1888 гг.  Рудольф Дизель работает над созданием двигателя принципиально новой конструкции. В голову ему приходит создание абсорбционного двигателя, работавшего на аммиаке, а в роли топлива должна была  выступать специальная пудра, полученная из каменного уг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83b7"/>
                </a:solidFill>
                <a:latin typeface="Franklin Gothic Medium"/>
              </a:rPr>
              <a:t>УСТРОЙСТВО ТЕПЛОВОГО ДВИГАТЕЛЯ</a:t>
            </a:r>
            <a:endParaRPr b="0" lang="en-US" sz="39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Franklin Gothic Book"/>
              </a:rPr>
              <a:t>       </a:t>
            </a:r>
            <a:r>
              <a:rPr b="0" i="1" lang="ru-RU" sz="3200" spc="-1" strike="noStrike">
                <a:solidFill>
                  <a:srgbClr val="04617b"/>
                </a:solidFill>
                <a:latin typeface="Franklin Gothic Book"/>
              </a:rPr>
              <a:t>Три основных элемента любого      </a:t>
            </a:r>
            <a:r>
              <a:rPr b="0" i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плового</a:t>
            </a:r>
            <a:r>
              <a:rPr b="0" i="1" lang="ru-RU" sz="3200" spc="-1" strike="noStrike">
                <a:solidFill>
                  <a:srgbClr val="04617b"/>
                </a:solidFill>
                <a:latin typeface="Franklin Gothic Book"/>
              </a:rPr>
              <a:t> двигателя: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.Нагреватель, сообщающий энергию рабочему телу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. Рабочее тело (газ или пар), совершающее работу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3.Холодильник, поглощающий часть энергии от рабочего тела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>
    <p:pull dir="l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83b7"/>
                </a:solidFill>
                <a:latin typeface="Franklin Gothic Medium"/>
              </a:rPr>
              <a:t>ПРИНЦИП ДЕЙСТВИЯ ТЕПЛОВОГО ДВИГАТЕЛЯ</a:t>
            </a:r>
            <a:endParaRPr b="0" lang="en-US" sz="35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Принцип действия теплового двигателя основан на свойстве газа или пара при расширении совершать работу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65040" indent="-28260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В процессе работы теплового двигателя периодически повторяются расширения и сжатия газа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65040" indent="-28260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Расширения газа происходят самопроизвольно, а сжатия под действием внешней силы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>
    <p:wheel spokes="2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3"/>
          <p:cNvSpPr/>
          <p:nvPr/>
        </p:nvSpPr>
        <p:spPr>
          <a:xfrm>
            <a:off x="1000080" y="428760"/>
            <a:ext cx="357192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реватель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</a:t>
            </a:r>
            <a:r>
              <a:rPr b="1" lang="en-US" sz="2000" spc="-1" strike="noStrike">
                <a:solidFill>
                  <a:srgbClr val="ffffff"/>
                </a:solidFill>
                <a:latin typeface="Cambria Math"/>
                <a:ea typeface="Cambria Math"/>
              </a:rPr>
              <a:t>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4"/>
          <p:cNvSpPr/>
          <p:nvPr/>
        </p:nvSpPr>
        <p:spPr>
          <a:xfrm>
            <a:off x="1000080" y="5786280"/>
            <a:ext cx="3857760" cy="928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одильник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</a:t>
            </a:r>
            <a:r>
              <a:rPr b="1" lang="en-US" sz="2000" spc="-1" strike="noStrike">
                <a:solidFill>
                  <a:srgbClr val="ffffff"/>
                </a:solidFill>
                <a:latin typeface="Cambria Math"/>
                <a:ea typeface="Cambria Math"/>
              </a:rPr>
              <a:t>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5"/>
          <p:cNvSpPr/>
          <p:nvPr/>
        </p:nvSpPr>
        <p:spPr>
          <a:xfrm>
            <a:off x="1571760" y="3000240"/>
            <a:ext cx="2643120" cy="1143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ее 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трелка вниз 7"/>
          <p:cNvSpPr/>
          <p:nvPr/>
        </p:nvSpPr>
        <p:spPr>
          <a:xfrm flipH="1">
            <a:off x="2071080" y="1500120"/>
            <a:ext cx="1571400" cy="142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Q</a:t>
            </a:r>
            <a:r>
              <a:rPr b="0" lang="en-US" sz="1800" spc="-1" strike="noStrike">
                <a:solidFill>
                  <a:srgbClr val="ffffff"/>
                </a:solidFill>
                <a:latin typeface="Cambria Math"/>
              </a:rPr>
              <a:t>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трелка вниз 8"/>
          <p:cNvSpPr/>
          <p:nvPr/>
        </p:nvSpPr>
        <p:spPr>
          <a:xfrm>
            <a:off x="2286000" y="4214880"/>
            <a:ext cx="1214280" cy="157140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Q</a:t>
            </a:r>
            <a:r>
              <a:rPr b="0" lang="en-US" sz="1800" spc="-1" strike="noStrike">
                <a:solidFill>
                  <a:srgbClr val="ffffff"/>
                </a:solidFill>
                <a:latin typeface="Cambria Math"/>
              </a:rPr>
              <a:t>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трелка вправо 9"/>
          <p:cNvSpPr/>
          <p:nvPr/>
        </p:nvSpPr>
        <p:spPr>
          <a:xfrm>
            <a:off x="4572000" y="3071880"/>
            <a:ext cx="3429000" cy="1000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Q</a:t>
            </a:r>
            <a:r>
              <a:rPr b="0" lang="en-US" sz="1800" spc="-1" strike="noStrike">
                <a:solidFill>
                  <a:srgbClr val="ffffff"/>
                </a:solidFill>
                <a:latin typeface="Cambria Math"/>
              </a:rPr>
              <a:t>₁ - Q₂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2"/>
          <p:cNvSpPr/>
          <p:nvPr/>
        </p:nvSpPr>
        <p:spPr>
          <a:xfrm>
            <a:off x="6143760" y="428760"/>
            <a:ext cx="2500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ак работает тепловой двиг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999720" y="1428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1143000" y="1357200"/>
            <a:ext cx="7000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эффициент полезного действия теплового двига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ПД) – отношение работы, совершаемой двигателем за цик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оличеству теплоты, полученной от нагрев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5" descr="C:\Documents and Settings\Пользователь\Рабочий стол\Тепловые двигатели\рис.3.jpg"/>
          <p:cNvPicPr/>
          <p:nvPr/>
        </p:nvPicPr>
        <p:blipFill>
          <a:blip r:embed="rId2"/>
          <a:srcRect l="60199" t="12704" r="29932" b="80232"/>
          <a:stretch/>
        </p:blipFill>
        <p:spPr>
          <a:xfrm>
            <a:off x="3643200" y="4214880"/>
            <a:ext cx="235764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3b7"/>
                </a:solidFill>
                <a:latin typeface="Times New Roman"/>
                <a:ea typeface="Times New Roman"/>
              </a:rPr>
              <a:t>КПД</a:t>
            </a:r>
            <a:r>
              <a:rPr b="0" lang="ru-RU" sz="3600" spc="-1" strike="noStrike">
                <a:solidFill>
                  <a:srgbClr val="0083b7"/>
                </a:solidFill>
                <a:latin typeface="Franklin Gothic Medium"/>
              </a:rPr>
              <a:t> ТЕПЛОВЫХ ДВИГАТЕЛЕЙ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523880" y="1397160"/>
          <a:ext cx="6096240" cy="4576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епловой двиг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К П Д   в  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овая маш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зун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ат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овая турб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овая турб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 внутреннего сгор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 Диз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кто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циона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-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- 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тивный двиг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83b7"/>
              </a:solidFill>
              <a:latin typeface="Franklin Gothic Medium"/>
            </a:endParaRPr>
          </a:p>
        </p:txBody>
      </p:sp>
      <p:pic>
        <p:nvPicPr>
          <p:cNvPr id="444" name="Picture 4" descr="BE_05f0236"/>
          <p:cNvPicPr/>
          <p:nvPr/>
        </p:nvPicPr>
        <p:blipFill>
          <a:blip r:embed="rId1"/>
          <a:stretch/>
        </p:blipFill>
        <p:spPr>
          <a:xfrm>
            <a:off x="1071720" y="1714680"/>
            <a:ext cx="2960640" cy="379224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4"/>
          <p:cNvSpPr/>
          <p:nvPr/>
        </p:nvSpPr>
        <p:spPr>
          <a:xfrm>
            <a:off x="4286160" y="1785960"/>
            <a:ext cx="4143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но Никола Леонард Сади (1796-1832 г.)- французский физик и инженер. Свои исследования он изложил в сочинении «размышления о движущей силе огня и о машинах, способных развивать эту силу». Он предложил идеальную тепловую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1359000" y="-6480"/>
            <a:ext cx="7565760" cy="19749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C:\Documents and Settings\Пользователь\Рабочий стол\Тепловые двигатели\рис.3.jpg"/>
          <p:cNvPicPr/>
          <p:nvPr/>
        </p:nvPicPr>
        <p:blipFill>
          <a:blip r:embed="rId2"/>
          <a:srcRect l="36248" t="3390" r="6987" b="10228"/>
          <a:stretch/>
        </p:blipFill>
        <p:spPr>
          <a:xfrm>
            <a:off x="642960" y="1571760"/>
            <a:ext cx="3357720" cy="43574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 – 2 - изотермическое расширение.</a:t>
            </a: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</a:t>
            </a:r>
            <a:r>
              <a:rPr b="1" lang="ru-RU" sz="1600" spc="-1" strike="noStrike">
                <a:solidFill>
                  <a:srgbClr val="04617b"/>
                </a:solidFill>
                <a:latin typeface="Cambria Math"/>
                <a:ea typeface="Cambria Math"/>
              </a:rPr>
              <a:t>₁₂ = </a:t>
            </a:r>
            <a:r>
              <a:rPr b="1" lang="en-US" sz="1600" spc="-1" strike="noStrike">
                <a:solidFill>
                  <a:srgbClr val="04617b"/>
                </a:solidFill>
                <a:latin typeface="Cambria Math"/>
                <a:ea typeface="Cambria Math"/>
              </a:rPr>
              <a:t>Q</a:t>
            </a:r>
            <a:r>
              <a:rPr b="1" lang="ru-RU" sz="1600" spc="-1" strike="noStrike">
                <a:solidFill>
                  <a:srgbClr val="04617b"/>
                </a:solidFill>
                <a:latin typeface="Cambria Math"/>
                <a:ea typeface="Cambria Math"/>
              </a:rPr>
              <a:t>₁</a:t>
            </a: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 – 3 – адиабатное расширение</a:t>
            </a: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</a:t>
            </a:r>
            <a:r>
              <a:rPr b="1" lang="ru-RU" sz="1600" spc="-1" strike="noStrike">
                <a:solidFill>
                  <a:srgbClr val="04617b"/>
                </a:solidFill>
                <a:latin typeface="Cambria Math"/>
              </a:rPr>
              <a:t> ₂₃ = - ∆</a:t>
            </a:r>
            <a:r>
              <a:rPr b="1" lang="en-US" sz="1600" spc="-1" strike="noStrike">
                <a:solidFill>
                  <a:srgbClr val="04617b"/>
                </a:solidFill>
                <a:latin typeface="Cambria Math"/>
              </a:rPr>
              <a:t>U</a:t>
            </a:r>
            <a:r>
              <a:rPr b="1" lang="ru-RU" sz="1600" spc="-1" strike="noStrike">
                <a:solidFill>
                  <a:srgbClr val="04617b"/>
                </a:solidFill>
                <a:latin typeface="Cambria Math"/>
              </a:rPr>
              <a:t>₂₃</a:t>
            </a: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3 – 4  - изотермическое  сжатие </a:t>
            </a: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A</a:t>
            </a:r>
            <a:r>
              <a:rPr b="1" lang="en-US" sz="1600" spc="-1" strike="noStrike">
                <a:solidFill>
                  <a:srgbClr val="04617b"/>
                </a:solidFill>
                <a:latin typeface="Cambria Math"/>
              </a:rPr>
              <a:t>₃₄= A </a:t>
            </a:r>
            <a:r>
              <a:rPr b="1" lang="ru-RU" sz="1600" spc="-1" strike="noStrike">
                <a:solidFill>
                  <a:srgbClr val="04617b"/>
                </a:solidFill>
                <a:latin typeface="Cambria Math"/>
              </a:rPr>
              <a:t>сж</a:t>
            </a:r>
            <a:r>
              <a:rPr b="1" lang="en-US" sz="1600" spc="-1" strike="noStrike">
                <a:solidFill>
                  <a:srgbClr val="04617b"/>
                </a:solidFill>
                <a:latin typeface="Cambria Math"/>
              </a:rPr>
              <a:t> = Q₂</a:t>
            </a: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4 – 1 – адиабатное сжатие</a:t>
            </a: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A</a:t>
            </a:r>
            <a:r>
              <a:rPr b="1" lang="en-US" sz="1600" spc="-1" strike="noStrike">
                <a:solidFill>
                  <a:srgbClr val="04617b"/>
                </a:solidFill>
                <a:latin typeface="Cambria Math"/>
              </a:rPr>
              <a:t>₄₁=</a:t>
            </a:r>
            <a:r>
              <a:rPr b="1" lang="ru-RU" sz="1600" spc="-1" strike="noStrike">
                <a:solidFill>
                  <a:srgbClr val="04617b"/>
                </a:solidFill>
                <a:latin typeface="Cambria Math"/>
              </a:rPr>
              <a:t> ∆</a:t>
            </a:r>
            <a:r>
              <a:rPr b="1" lang="en-US" sz="1600" spc="-1" strike="noStrike">
                <a:solidFill>
                  <a:srgbClr val="04617b"/>
                </a:solidFill>
                <a:latin typeface="Cambria Math"/>
              </a:rPr>
              <a:t>U₄₁ </a:t>
            </a: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1499760" y="1523880"/>
            <a:ext cx="743436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Franklin Gothic Book"/>
              </a:rPr>
              <a:t>«Тепловые двигатели наоборот»  это : холодильник, кондиционер и тепловой насос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Franklin Gothic Book"/>
              </a:rPr>
              <a:t>В них  происходит передача  тепла от более холодного  к более нагретому, что требует совершения работы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Franklin Gothic Book"/>
              </a:rPr>
              <a:t>Работу производит электродвигатель, подключенный к источнику тока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3b7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83b7"/>
                </a:solidFill>
                <a:latin typeface="Times New Roman"/>
                <a:ea typeface="Times New Roman"/>
              </a:rPr>
              <a:t>«ТЕПЛОВЫЕ ДВИГАТЕЛИ НАОБОРОТ»,</a:t>
            </a:r>
            <a:br>
              <a:rPr sz="3200"/>
            </a:br>
            <a:r>
              <a:rPr b="0" lang="ru-RU" sz="3200" spc="-1" strike="noStrike">
                <a:solidFill>
                  <a:srgbClr val="0083b7"/>
                </a:solidFill>
                <a:latin typeface="Times New Roman"/>
                <a:ea typeface="Times New Roman"/>
              </a:rPr>
              <a:t> ИХ ПРИНЦИП ДЕЙСТВИЯ.</a:t>
            </a:r>
            <a:endParaRPr b="0" lang="en-US" sz="32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434960" y="1447920"/>
          <a:ext cx="2351160" cy="4767120"/>
        </p:xfrm>
        <a:graphic>
          <a:graphicData uri="http://schemas.openxmlformats.org/drawingml/2006/table">
            <a:tbl>
              <a:tblPr/>
              <a:tblGrid>
                <a:gridCol w="2351160"/>
              </a:tblGrid>
              <a:tr h="47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Q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 Math"/>
                        </a:rPr>
                        <a:t>₁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 Math"/>
                        </a:rPr>
                        <a:t>- количество теплоты,  отобранное  у проду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 Math"/>
                        </a:rPr>
                        <a:t>Q₂ -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 Math"/>
                        </a:rPr>
                        <a:t>количество теплоты, переданное воздуху  в помещ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 Math"/>
                        </a:rPr>
                        <a:t>А -  работа электрического т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sp>
        <p:nvSpPr>
          <p:cNvPr id="453" name="Прямоугольник 3"/>
          <p:cNvSpPr/>
          <p:nvPr/>
        </p:nvSpPr>
        <p:spPr>
          <a:xfrm>
            <a:off x="4643280" y="2857680"/>
            <a:ext cx="264348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Рабочее 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Стрелка вниз 4"/>
          <p:cNvSpPr/>
          <p:nvPr/>
        </p:nvSpPr>
        <p:spPr>
          <a:xfrm>
            <a:off x="5357880" y="1500120"/>
            <a:ext cx="1214280" cy="107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Q</a:t>
            </a:r>
            <a:r>
              <a:rPr b="0" lang="en-US" sz="1800" spc="-1" strike="noStrike">
                <a:solidFill>
                  <a:srgbClr val="ffffff"/>
                </a:solidFill>
                <a:latin typeface="Cambria Math"/>
              </a:rPr>
              <a:t>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лево 5"/>
          <p:cNvSpPr/>
          <p:nvPr/>
        </p:nvSpPr>
        <p:spPr>
          <a:xfrm>
            <a:off x="7429680" y="2928960"/>
            <a:ext cx="1428480" cy="9288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низ 6"/>
          <p:cNvSpPr/>
          <p:nvPr/>
        </p:nvSpPr>
        <p:spPr>
          <a:xfrm>
            <a:off x="4714920" y="4286160"/>
            <a:ext cx="2786040" cy="1714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Q</a:t>
            </a:r>
            <a:r>
              <a:rPr b="0" lang="en-US" sz="1800" spc="-1" strike="noStrike">
                <a:solidFill>
                  <a:srgbClr val="ffffff"/>
                </a:solidFill>
                <a:latin typeface="Cambria Math"/>
              </a:rPr>
              <a:t>₂=Q₁+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16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1.Сформировать  понятие о физических принципах действия тепловых двигателей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9480" indent="-2628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2.Познакомить учащихся   с важнейшими направлениями применения тепловых двигателей в народном хозяйстве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9480" indent="-2628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3. Выяснить экологические проблемы, связанные с использованием тепловых двигателей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4637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пловые двигатели – необходимый атрибут современной цивилизации.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  их помощью вырабатывается около  80 % электроэнергии.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ез тепловых двигателей (ДД, ДВС) невозможно представить современный транспорт.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аротурбинные двигатели применяются на водном транспорте.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азотурбинные -  в авиации.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кетные двигатели используются в ракетно – космической технике.</a:t>
            </a: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429080" y="1357200"/>
            <a:ext cx="4214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Franklin Gothic Book"/>
              </a:rPr>
              <a:t>Первый практически пригодный пароход построен в 1807 году Фультоном. (амер)</a:t>
            </a:r>
            <a:endParaRPr b="0" lang="en-US" sz="2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Franklin Gothic Book"/>
              </a:rPr>
              <a:t>Первый российский пароход  «Елизавета» построен в 1815 году на заводе предпринимателя К.Н.Берда.</a:t>
            </a:r>
            <a:endParaRPr b="0" lang="en-US" sz="2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4617b"/>
                </a:solidFill>
                <a:latin typeface="Franklin Gothic Book"/>
              </a:rPr>
              <a:t>Его первый рейс был из Петербурга в Кронштадт.</a:t>
            </a:r>
            <a:endParaRPr b="0" lang="en-US" sz="26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61" name="Picture 4" descr="водный 3"/>
          <p:cNvPicPr/>
          <p:nvPr/>
        </p:nvPicPr>
        <p:blipFill>
          <a:blip r:embed="rId2"/>
          <a:stretch/>
        </p:blipFill>
        <p:spPr>
          <a:xfrm>
            <a:off x="642960" y="21430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3" descr=""/>
          <p:cNvPicPr/>
          <p:nvPr/>
        </p:nvPicPr>
        <p:blipFill>
          <a:blip r:embed="rId1"/>
          <a:stretch/>
        </p:blipFill>
        <p:spPr>
          <a:xfrm>
            <a:off x="225360" y="457200"/>
            <a:ext cx="8766360" cy="11224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ж-д 3"/>
          <p:cNvPicPr/>
          <p:nvPr/>
        </p:nvPicPr>
        <p:blipFill>
          <a:blip r:embed="rId2"/>
          <a:stretch/>
        </p:blipFill>
        <p:spPr>
          <a:xfrm>
            <a:off x="304920" y="2562120"/>
            <a:ext cx="4190760" cy="28004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Franklin Gothic Book"/>
              </a:rPr>
              <a:t>В 1829 году инженер Дж. Стефенсон построил лучший для того времени паровоз «Ракета».</a:t>
            </a:r>
            <a:endParaRPr b="0" lang="en-US" sz="2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4617b"/>
                </a:solidFill>
                <a:latin typeface="Franklin Gothic Book"/>
              </a:rPr>
              <a:t>Первый тепловоз  построен в 1924г. советским ученым Л.М.Таккелем.</a:t>
            </a:r>
            <a:endParaRPr b="0" lang="en-US" sz="2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Franklin Gothic Book"/>
              </a:rPr>
              <a:t>    </a:t>
            </a:r>
            <a:r>
              <a:rPr b="0" lang="ru-RU" sz="2600" spc="-1" strike="noStrike">
                <a:solidFill>
                  <a:srgbClr val="04617b"/>
                </a:solidFill>
                <a:latin typeface="Franklin Gothic Book"/>
              </a:rPr>
              <a:t>Тепловоз приводит в движение  двигатель внутреннего сгорания </a:t>
            </a:r>
            <a:endParaRPr b="0" lang="en-US" sz="26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>
    <p:pull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216-1024"/>
          <p:cNvPicPr/>
          <p:nvPr/>
        </p:nvPicPr>
        <p:blipFill>
          <a:blip r:embed="rId2"/>
          <a:stretch/>
        </p:blipFill>
        <p:spPr>
          <a:xfrm>
            <a:off x="304920" y="239076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Franklin Gothic Book"/>
              </a:rPr>
              <a:t>Прообразом современного автомобиля считают самодвижущуюся повозку немецких механиков Г.Даймлера  и Бенца. В 1883 году легкий ДВС был установлен на обычный</a:t>
            </a:r>
            <a:r>
              <a:rPr b="0" lang="ru-RU" sz="2800" spc="-1" strike="noStrike">
                <a:solidFill>
                  <a:srgbClr val="04617b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04617b"/>
                </a:solidFill>
                <a:latin typeface="Franklin Gothic Book"/>
              </a:rPr>
              <a:t> конный экипаж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самолёт 3"/>
          <p:cNvPicPr/>
          <p:nvPr/>
        </p:nvPicPr>
        <p:blipFill>
          <a:blip r:embed="rId2"/>
          <a:stretch/>
        </p:blipFill>
        <p:spPr>
          <a:xfrm>
            <a:off x="1643040" y="1571760"/>
            <a:ext cx="3214800" cy="19285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Franklin Gothic Book"/>
              </a:rPr>
              <a:t>17 декабря 1903 года американские изобретатели Орвил и  Уилбур Райт провели испытание первого в мире  самолета - аэроплана (планера, снабженного  ДВС).</a:t>
            </a:r>
            <a:endParaRPr b="0" lang="en-US" sz="2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Franklin Gothic Book"/>
              </a:rPr>
              <a:t>Полет продолжался 12 секунд на высоте</a:t>
            </a:r>
            <a:endParaRPr b="0" lang="en-US" sz="2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Franklin Gothic Book"/>
              </a:rPr>
              <a:t>      </a:t>
            </a:r>
            <a:r>
              <a:rPr b="0" lang="ru-RU" sz="2600" spc="-1" strike="noStrike">
                <a:solidFill>
                  <a:srgbClr val="04617b"/>
                </a:solidFill>
                <a:latin typeface="Franklin Gothic Book"/>
              </a:rPr>
              <a:t>3 метра от земли.</a:t>
            </a:r>
            <a:endParaRPr b="0" lang="en-US" sz="26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71" name="Picture 4" descr="самолёт 1"/>
          <p:cNvPicPr/>
          <p:nvPr/>
        </p:nvPicPr>
        <p:blipFill>
          <a:blip r:embed="rId3"/>
          <a:stretch/>
        </p:blipFill>
        <p:spPr>
          <a:xfrm>
            <a:off x="1643040" y="392904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ракета 1"/>
          <p:cNvPicPr/>
          <p:nvPr/>
        </p:nvPicPr>
        <p:blipFill>
          <a:blip r:embed="rId2"/>
          <a:stretch/>
        </p:blipFill>
        <p:spPr>
          <a:xfrm>
            <a:off x="343080" y="2790720"/>
            <a:ext cx="4114800" cy="23432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Franklin Gothic Book"/>
              </a:rPr>
              <a:t>17 августа 1933 года в воздух поднялась  на высоту около 400 м  первая советская жидкостная ракета, сконструированная М.К.Тихомировым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Franklin Gothic Book"/>
              </a:rPr>
              <a:t>4 октября 1957 года был запущен первый искусственный спутник  Земли.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4" descr=""/>
          <p:cNvPicPr/>
          <p:nvPr/>
        </p:nvPicPr>
        <p:blipFill>
          <a:blip r:embed="rId1"/>
          <a:stretch/>
        </p:blipFill>
        <p:spPr>
          <a:xfrm>
            <a:off x="1243080" y="274680"/>
            <a:ext cx="7692840" cy="608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Заголовок 2" descr=""/>
          <p:cNvPicPr/>
          <p:nvPr/>
        </p:nvPicPr>
        <p:blipFill>
          <a:blip r:embed="rId1"/>
          <a:stretch/>
        </p:blipFill>
        <p:spPr>
          <a:xfrm>
            <a:off x="914400" y="0"/>
            <a:ext cx="7772400" cy="16956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C:\Documents and Settings\Пользователь\Рабочий стол\Тепловые двигатели\рис.2.jpg"/>
          <p:cNvPicPr/>
          <p:nvPr/>
        </p:nvPicPr>
        <p:blipFill>
          <a:blip r:embed="rId2"/>
          <a:srcRect l="6178" t="16924" r="15095" b="29916"/>
          <a:stretch/>
        </p:blipFill>
        <p:spPr>
          <a:xfrm>
            <a:off x="2786040" y="1500120"/>
            <a:ext cx="4786200" cy="2571840"/>
          </a:xfrm>
          <a:prstGeom prst="rect">
            <a:avLst/>
          </a:prstGeom>
          <a:ln w="0">
            <a:noFill/>
          </a:ln>
        </p:spPr>
      </p:pic>
      <p:sp>
        <p:nvSpPr>
          <p:cNvPr id="478" name="TextBox 3"/>
          <p:cNvSpPr/>
          <p:nvPr/>
        </p:nvSpPr>
        <p:spPr>
          <a:xfrm>
            <a:off x="3071880" y="4214880"/>
            <a:ext cx="4786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хема  двигателя внутреннего сгор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- камера сгор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-  поршен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- кривошипно – шатунный механ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 – радиатор в системе охла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 – венти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 – система выпуска га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C:\Documents and Settings\Пользователь\Рабочий стол\Тепловые двигатели\рис.2.jpg"/>
          <p:cNvPicPr/>
          <p:nvPr/>
        </p:nvPicPr>
        <p:blipFill>
          <a:blip r:embed="rId3"/>
          <a:srcRect l="6178" t="16924" r="15095" b="29916"/>
          <a:stretch/>
        </p:blipFill>
        <p:spPr>
          <a:xfrm>
            <a:off x="2938320" y="1652760"/>
            <a:ext cx="4786560" cy="2571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C:\Documents and Settings\Пользователь\Рабочий стол\Тепловые двигатели\рис.2.jpg"/>
          <p:cNvPicPr/>
          <p:nvPr/>
        </p:nvPicPr>
        <p:blipFill>
          <a:blip r:embed="rId4"/>
          <a:srcRect l="6178" t="16924" r="15095" b="29916"/>
          <a:stretch/>
        </p:blipFill>
        <p:spPr>
          <a:xfrm>
            <a:off x="3059280" y="1484280"/>
            <a:ext cx="478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C:\Documents and Settings\Пользователь\Рабочий стол\Тепловые двигатели\рис.2.jpg"/>
          <p:cNvPicPr/>
          <p:nvPr/>
        </p:nvPicPr>
        <p:blipFill>
          <a:blip r:embed="rId5"/>
          <a:srcRect l="6178" t="16924" r="15095" b="29916"/>
          <a:stretch/>
        </p:blipFill>
        <p:spPr>
          <a:xfrm>
            <a:off x="3132000" y="1773360"/>
            <a:ext cx="4786560" cy="25714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Заголовок 2" descr=""/>
          <p:cNvPicPr/>
          <p:nvPr/>
        </p:nvPicPr>
        <p:blipFill>
          <a:blip r:embed="rId1"/>
          <a:stretch/>
        </p:blipFill>
        <p:spPr>
          <a:xfrm>
            <a:off x="914400" y="0"/>
            <a:ext cx="7772400" cy="18478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C:\Documents and Settings\Пользователь\Рабочий стол\Тепловые двигатели\рис.1.jpg"/>
          <p:cNvPicPr/>
          <p:nvPr/>
        </p:nvPicPr>
        <p:blipFill>
          <a:blip r:embed="rId2"/>
          <a:srcRect l="8599" t="15985" r="10753" b="20088"/>
          <a:stretch/>
        </p:blipFill>
        <p:spPr>
          <a:xfrm>
            <a:off x="1214280" y="1643040"/>
            <a:ext cx="6929640" cy="22860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4"/>
          <p:cNvSpPr/>
          <p:nvPr/>
        </p:nvSpPr>
        <p:spPr>
          <a:xfrm>
            <a:off x="2571840" y="4000680"/>
            <a:ext cx="5572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80 % - бесполезные пот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0 % - полезно затраченная энерг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 % - осв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 %  - преодоление сопроти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 % - работа силы трения ко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9 % - движение автомоби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2" descr=""/>
          <p:cNvPicPr/>
          <p:nvPr/>
        </p:nvPicPr>
        <p:blipFill>
          <a:blip r:embed="rId1"/>
          <a:stretch/>
        </p:blipFill>
        <p:spPr>
          <a:xfrm>
            <a:off x="5578560" y="360360"/>
            <a:ext cx="3138480" cy="49244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C:\Documents and Settings\Пользователь\Рабочий стол\ГЭС, природа\Изображение 548.bmp"/>
          <p:cNvPicPr/>
          <p:nvPr/>
        </p:nvPicPr>
        <p:blipFill>
          <a:blip r:embed="rId2"/>
          <a:stretch/>
        </p:blipFill>
        <p:spPr>
          <a:xfrm>
            <a:off x="500040" y="1000080"/>
            <a:ext cx="4929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Вращайтесь, мощные колеса,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Свистите, длинные ремни,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Горите свыше, впрямь и косо,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Над взмахами валов, огни!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Пуды,  бросая, как  пригоршню, 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В своем разлете роковом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Спешите, яростные поршни,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Бороться с мертвым естеством!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                                       </a:t>
            </a: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Валерий  Брюсов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>
    <p:plus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pic>
        <p:nvPicPr>
          <p:cNvPr id="488" name="Схема 2" descr=""/>
          <p:cNvPicPr/>
          <p:nvPr/>
        </p:nvPicPr>
        <p:blipFill>
          <a:blip r:embed="rId2"/>
          <a:stretch/>
        </p:blipFill>
        <p:spPr>
          <a:xfrm>
            <a:off x="652320" y="360360"/>
            <a:ext cx="8131320" cy="6497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83b7"/>
                </a:solidFill>
                <a:latin typeface="Times New Roman"/>
                <a:ea typeface="Times New Roman"/>
              </a:rPr>
              <a:t>ПОВЫШЕНИЕ</a:t>
            </a:r>
            <a:br>
              <a:rPr sz="5400"/>
            </a:br>
            <a:r>
              <a:rPr b="0" lang="ru-RU" sz="5400" spc="-1" strike="noStrike">
                <a:solidFill>
                  <a:srgbClr val="0083b7"/>
                </a:solidFill>
                <a:latin typeface="Times New Roman"/>
                <a:ea typeface="Times New Roman"/>
              </a:rPr>
              <a:t> КПД ТЕПЛОВОГО ДВИГАТЕЛЯ </a:t>
            </a:r>
            <a:br>
              <a:rPr sz="5400"/>
            </a:br>
            <a:r>
              <a:rPr b="0" lang="ru-RU" sz="5400" spc="-1" strike="noStrike">
                <a:solidFill>
                  <a:srgbClr val="0083b7"/>
                </a:solidFill>
                <a:latin typeface="Times New Roman"/>
                <a:ea typeface="Times New Roman"/>
              </a:rPr>
              <a:t>И ОХРАНА  ОКРУЖАЮЩЕЙ СРЕДЫ.</a:t>
            </a:r>
            <a:endParaRPr b="0" lang="en-US" sz="5400" spc="-1" strike="noStrike">
              <a:solidFill>
                <a:srgbClr val="04617b"/>
              </a:solidFill>
              <a:latin typeface="Franklin Gothic Medium"/>
            </a:endParaRPr>
          </a:p>
        </p:txBody>
      </p:sp>
    </p:spTree>
  </p:cSld>
  <p:transition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b8d"/>
              </a:solidFill>
              <a:latin typeface="Franklin Gothic Medium"/>
            </a:endParaRPr>
          </a:p>
        </p:txBody>
      </p:sp>
      <p:pic>
        <p:nvPicPr>
          <p:cNvPr id="491" name="Содержимое 3" descr=""/>
          <p:cNvPicPr/>
          <p:nvPr/>
        </p:nvPicPr>
        <p:blipFill>
          <a:blip r:embed="rId1"/>
          <a:stretch/>
        </p:blipFill>
        <p:spPr>
          <a:xfrm>
            <a:off x="1420920" y="274680"/>
            <a:ext cx="7547040" cy="59864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1434960" y="857160"/>
            <a:ext cx="74995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Franklin Gothic Book"/>
              </a:rPr>
              <a:t>    </a:t>
            </a:r>
            <a:r>
              <a:rPr b="1" i="1" lang="ru-RU" sz="3600" spc="-1" strike="noStrike">
                <a:solidFill>
                  <a:srgbClr val="04617b"/>
                </a:solidFill>
                <a:latin typeface="Franklin Gothic Book"/>
              </a:rPr>
              <a:t>Использование тепловых двигателей дает человеку огромные возможности и одновременно является наиболее сильным фактором </a:t>
            </a:r>
            <a:endParaRPr b="0" lang="en-US" sz="36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Franklin Gothic Book"/>
              </a:rPr>
              <a:t>    </a:t>
            </a:r>
            <a:r>
              <a:rPr b="1" i="1" lang="ru-RU" sz="3600" spc="-1" strike="noStrike">
                <a:solidFill>
                  <a:srgbClr val="04617b"/>
                </a:solidFill>
                <a:latin typeface="Franklin Gothic Book"/>
              </a:rPr>
              <a:t>разрушения природы.</a:t>
            </a:r>
            <a:endParaRPr b="0" lang="en-US" sz="36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>
    <p:pull dir="l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Franklin Gothic Book"/>
              </a:rPr>
              <a:t>«Могущество страны не только в одном   материальном богатстве, но и в духе народа. </a:t>
            </a:r>
            <a:endParaRPr b="0" lang="en-US" sz="2700" spc="-1" strike="noStrike">
              <a:solidFill>
                <a:srgbClr val="04617b"/>
              </a:solidFill>
              <a:latin typeface="Franklin Gothic Book"/>
            </a:endParaRPr>
          </a:p>
          <a:p>
            <a:pPr marL="339480" indent="-262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Franklin Gothic Book"/>
              </a:rPr>
              <a:t>Чем шире, свободнее эта душа, тем большего    величия и силы достигает государство.</a:t>
            </a:r>
            <a:endParaRPr b="0" lang="en-US" sz="2700" spc="-1" strike="noStrike">
              <a:solidFill>
                <a:srgbClr val="04617b"/>
              </a:solidFill>
              <a:latin typeface="Franklin Gothic Book"/>
            </a:endParaRPr>
          </a:p>
          <a:p>
            <a:pPr marL="339480" indent="-262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Franklin Gothic Book"/>
              </a:rPr>
              <a:t> </a:t>
            </a:r>
            <a:r>
              <a:rPr b="0" lang="ru-RU" sz="2700" spc="-1" strike="noStrike">
                <a:solidFill>
                  <a:srgbClr val="04617b"/>
                </a:solidFill>
                <a:latin typeface="Franklin Gothic Book"/>
              </a:rPr>
              <a:t>А что воспитывает   широту духа, как не эта удивительная природа! </a:t>
            </a:r>
            <a:endParaRPr b="0" lang="en-US" sz="2700" spc="-1" strike="noStrike">
              <a:solidFill>
                <a:srgbClr val="04617b"/>
              </a:solidFill>
              <a:latin typeface="Franklin Gothic Book"/>
            </a:endParaRPr>
          </a:p>
          <a:p>
            <a:pPr marL="339480" indent="-262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Franklin Gothic Book"/>
              </a:rPr>
              <a:t>Её надо беречь, как мы бережём самую жизнь человека. </a:t>
            </a:r>
            <a:endParaRPr b="0" lang="en-US" sz="2700" spc="-1" strike="noStrike">
              <a:solidFill>
                <a:srgbClr val="04617b"/>
              </a:solidFill>
              <a:latin typeface="Franklin Gothic Book"/>
            </a:endParaRPr>
          </a:p>
          <a:p>
            <a:pPr marL="339480" indent="-262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Franklin Gothic Book"/>
              </a:rPr>
              <a:t>Потомки никогда  не простят нам опустошения земли, надругательства над тем, что по праву принадлежит не только нам, но и им.»</a:t>
            </a:r>
            <a:endParaRPr b="0" lang="en-US" sz="2700" spc="-1" strike="noStrike">
              <a:solidFill>
                <a:srgbClr val="04617b"/>
              </a:solidFill>
              <a:latin typeface="Franklin Gothic Book"/>
            </a:endParaRPr>
          </a:p>
          <a:p>
            <a:pPr marL="339480" indent="-262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Franklin Gothic Book"/>
              </a:rPr>
              <a:t>                                                           </a:t>
            </a:r>
            <a:r>
              <a:rPr b="0" lang="ru-RU" sz="2700" spc="-1" strike="noStrike">
                <a:solidFill>
                  <a:srgbClr val="04617b"/>
                </a:solidFill>
                <a:latin typeface="Franklin Gothic Book"/>
              </a:rPr>
              <a:t>П.И.Чайковский</a:t>
            </a:r>
            <a:endParaRPr b="0" lang="en-US" sz="2700" spc="-1" strike="noStrike">
              <a:solidFill>
                <a:srgbClr val="04617b"/>
              </a:solidFill>
              <a:latin typeface="Franklin Gothic Book"/>
            </a:endParaRPr>
          </a:p>
          <a:p>
            <a:pPr marL="339480" indent="-262800">
              <a:lnSpc>
                <a:spcPct val="90000"/>
              </a:lnSpc>
              <a:spcBef>
                <a:spcPts val="675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3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  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Тепловой двигатель – это устройство, преобразующее внутреннюю энергию топлива в механическую энергию.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p:transition>
    <p:strips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2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1116000"/>
          </a:xfrm>
          <a:prstGeom prst="rect">
            <a:avLst/>
          </a:prstGeom>
          <a:ln w="0">
            <a:noFill/>
          </a:ln>
        </p:spPr>
      </p:pic>
      <p:pic>
        <p:nvPicPr>
          <p:cNvPr id="414" name="Содержимое 5" descr=""/>
          <p:cNvPicPr/>
          <p:nvPr/>
        </p:nvPicPr>
        <p:blipFill>
          <a:blip r:embed="rId2"/>
          <a:stretch/>
        </p:blipFill>
        <p:spPr>
          <a:xfrm>
            <a:off x="291960" y="1523880"/>
            <a:ext cx="87123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398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4617b"/>
                </a:solidFill>
                <a:uFillTx/>
                <a:latin typeface="Franklin Gothic Book"/>
              </a:rPr>
              <a:t>1690</a:t>
            </a:r>
            <a:r>
              <a:rPr b="0" lang="ru-RU" sz="2400" spc="-1" strike="noStrike">
                <a:solidFill>
                  <a:srgbClr val="04617b"/>
                </a:solidFill>
                <a:latin typeface="Franklin Gothic Book"/>
              </a:rPr>
              <a:t> – пароатмосферная машина Д.Папена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4617b"/>
                </a:solidFill>
                <a:uFillTx/>
                <a:latin typeface="Franklin Gothic Book"/>
              </a:rPr>
              <a:t>1705</a:t>
            </a:r>
            <a:r>
              <a:rPr b="0" lang="ru-RU" sz="2400" spc="-1" strike="noStrike">
                <a:solidFill>
                  <a:srgbClr val="04617b"/>
                </a:solidFill>
                <a:latin typeface="Franklin Gothic Book"/>
              </a:rPr>
              <a:t> - пароатмосферная машина Т.Ньюкомена для подъема воды из шахты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4617b"/>
                </a:solidFill>
                <a:uFillTx/>
                <a:latin typeface="Franklin Gothic Book"/>
              </a:rPr>
              <a:t>1763-1766</a:t>
            </a:r>
            <a:r>
              <a:rPr b="0" lang="ru-RU" sz="2400" spc="-1" strike="noStrike">
                <a:solidFill>
                  <a:srgbClr val="04617b"/>
                </a:solidFill>
                <a:latin typeface="Franklin Gothic Book"/>
              </a:rPr>
              <a:t> – паровой двигатель И.И.Ползунова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4617b"/>
                </a:solidFill>
                <a:uFillTx/>
                <a:latin typeface="Franklin Gothic Book"/>
              </a:rPr>
              <a:t>1784</a:t>
            </a:r>
            <a:r>
              <a:rPr b="0" lang="ru-RU" sz="2400" spc="-1" strike="noStrike">
                <a:solidFill>
                  <a:srgbClr val="04617b"/>
                </a:solidFill>
                <a:latin typeface="Franklin Gothic Book"/>
              </a:rPr>
              <a:t> – паровой двигатель Дж.Уатта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4617b"/>
                </a:solidFill>
                <a:uFillTx/>
                <a:latin typeface="Franklin Gothic Book"/>
              </a:rPr>
              <a:t>1865</a:t>
            </a:r>
            <a:r>
              <a:rPr b="0" lang="ru-RU" sz="2400" spc="-1" strike="noStrike">
                <a:solidFill>
                  <a:srgbClr val="04617b"/>
                </a:solidFill>
                <a:latin typeface="Franklin Gothic Book"/>
              </a:rPr>
              <a:t> – двигатель внутреннего сгорания Н.Отто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4617b"/>
                </a:solidFill>
                <a:uFillTx/>
                <a:latin typeface="Franklin Gothic Book"/>
              </a:rPr>
              <a:t>1871</a:t>
            </a:r>
            <a:r>
              <a:rPr b="0" lang="ru-RU" sz="2400" spc="-1" strike="noStrike">
                <a:solidFill>
                  <a:srgbClr val="04617b"/>
                </a:solidFill>
                <a:latin typeface="Franklin Gothic Book"/>
              </a:rPr>
              <a:t> – холодильная машина К.Линде</a:t>
            </a:r>
            <a:endParaRPr b="0" lang="en-US" sz="24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4617b"/>
                </a:solidFill>
                <a:uFillTx/>
                <a:latin typeface="Franklin Gothic Book"/>
              </a:rPr>
              <a:t>1897</a:t>
            </a:r>
            <a:r>
              <a:rPr b="0" lang="ru-RU" sz="2400" spc="-1" strike="noStrike">
                <a:solidFill>
                  <a:srgbClr val="04617b"/>
                </a:solidFill>
                <a:latin typeface="Franklin Gothic Book"/>
              </a:rPr>
              <a:t> – двигатель внутреннего сгорания Р.Дизеля (с самовоспламенением</a:t>
            </a:r>
            <a:r>
              <a:rPr b="0" lang="ru-RU" sz="3200" spc="-1" strike="noStrike">
                <a:solidFill>
                  <a:srgbClr val="04617b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polzunov_01[1]"/>
          <p:cNvPicPr/>
          <p:nvPr/>
        </p:nvPicPr>
        <p:blipFill>
          <a:blip r:embed="rId1"/>
          <a:stretch/>
        </p:blipFill>
        <p:spPr>
          <a:xfrm>
            <a:off x="5000760" y="428760"/>
            <a:ext cx="3563640" cy="53816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2"/>
          <p:cNvSpPr/>
          <p:nvPr/>
        </p:nvSpPr>
        <p:spPr>
          <a:xfrm>
            <a:off x="1000080" y="1071720"/>
            <a:ext cx="38577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апреле 1763 г. Ползу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монстрировал рабо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гнедействующей маш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для заводских нужд»</a:t>
            </a:r>
            <a:br>
              <a:rPr sz="1400"/>
            </a:b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5" descr="watt2.jpg (6821 bytes)"/>
          <p:cNvPicPr/>
          <p:nvPr/>
        </p:nvPicPr>
        <p:blipFill>
          <a:blip r:embed="rId1"/>
          <a:stretch/>
        </p:blipFill>
        <p:spPr>
          <a:xfrm>
            <a:off x="4859280" y="428760"/>
            <a:ext cx="4044960" cy="550044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 2"/>
          <p:cNvSpPr/>
          <p:nvPr/>
        </p:nvSpPr>
        <p:spPr>
          <a:xfrm>
            <a:off x="357120" y="1285920"/>
            <a:ext cx="4071960" cy="40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1781 г. Джеймс Уат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лучил патент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обретение второй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воей ма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1782 г. э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мечательная машина, пер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ниверсальная пар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шина «двойного действия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ыла построен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5" descr="Николаус Август Отто"/>
          <p:cNvPicPr/>
          <p:nvPr/>
        </p:nvPicPr>
        <p:blipFill>
          <a:blip r:embed="rId1"/>
          <a:stretch/>
        </p:blipFill>
        <p:spPr>
          <a:xfrm>
            <a:off x="5292720" y="714240"/>
            <a:ext cx="3565440" cy="435780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2"/>
          <p:cNvSpPr/>
          <p:nvPr/>
        </p:nvSpPr>
        <p:spPr>
          <a:xfrm>
            <a:off x="1071720" y="2550960"/>
            <a:ext cx="428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  1863 году был готов первый образец атмосферного газового двигателя с поршнем от авиационного мотора и ручным стартером, работавшим на смеси бензина и возду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3"/>
          <p:cNvSpPr/>
          <p:nvPr/>
        </p:nvSpPr>
        <p:spPr>
          <a:xfrm>
            <a:off x="1000080" y="57168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 Н.От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Хава</cp:lastModifiedBy>
  <dcterms:modified xsi:type="dcterms:W3CDTF">2022-02-14T07:22:07Z</dcterms:modified>
  <cp:revision>153</cp:revision>
  <dc:subject/>
  <dc:title>Слайд 1</dc:title>
</cp:coreProperties>
</file>